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87C0-D0F0-4C6C-A2E3-EB883D19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DAAE-F4A0-45D7-B751-22B8F5FD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5B93-F85B-4689-BBD8-B5B3F975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F952-02CA-4251-AB4F-2CB602D4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5D6-4343-42D3-9B25-08013687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8A6-90C5-429E-9E3B-6D8CC097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B2E-6705-4DA4-A0DA-0E2FD396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55BC-C348-40A3-8667-4A2A757B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CE4-2BAE-4DF9-AC62-549DCF0E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5107-261A-4E30-84FC-89E92C81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8A0-A524-473B-85B2-668CC9E3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9313-3FD0-40CF-9E31-0F89D3F4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9D2F-DA0C-4301-BA4B-FE4DCF7D8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6.png"/><Relationship Id="rId11" Type="http://schemas.openxmlformats.org/officeDocument/2006/relationships/hyperlink" Target="http://crimeshots.com/CrimeScene1.html" TargetMode="Externa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Edwardian Script ITC"/>
              </a:rPr>
              <a:t>Jonbenet Ramsey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"It was very unusual for a kidnap victim's body to be found at home — it's not adding up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-360" y="0"/>
            <a:ext cx="3352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Jonbenet was just 6 years old when her life was taken from her in her own ho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he lived in Boulder Color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er parents found a note the day after Christmas saying that Jonbenet was kidnapped  by a “small foreign faction” and was being held for $118,000 exchange due the next 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171840" y="0"/>
            <a:ext cx="2971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She was found by her father in the basement of her home, the same day the note was fou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Her parents, John and Patsy Ramsey were prime susp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Later on John Andrew, and Melinda ( John Ramsey’s children) were also suspe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John Mark Kar was another prime susp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4648320" y="1600200"/>
            <a:ext cx="37335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ck of Footprints in the sn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 forced ent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ir analys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lood D.N.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ot pri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ndwriting samp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known male substance in her underpan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ks of a possible stun gu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Rectangle 5" descr=""/>
          <p:cNvPicPr/>
          <p:nvPr/>
        </p:nvPicPr>
        <p:blipFill>
          <a:blip r:embed="rId10"/>
          <a:stretch/>
        </p:blipFill>
        <p:spPr>
          <a:xfrm>
            <a:off x="-646200" y="-378000"/>
            <a:ext cx="7523280" cy="1835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4820760" y="5638680"/>
            <a:ext cx="40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crimeshots.com/CrimeScene1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0880" y="190512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now did not lead to all the do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onbenet’s room was below her parents with a 55 foot walkway, and thick carpet, relatively sound proo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ment window was op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or in the bas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552720" y="2590920"/>
            <a:ext cx="25909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foot prints in the sn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forced e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wind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ather found the body in the first room he looked 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tangle 8" descr=""/>
          <p:cNvPicPr/>
          <p:nvPr/>
        </p:nvPicPr>
        <p:blipFill>
          <a:blip r:embed="rId2"/>
          <a:stretch/>
        </p:blipFill>
        <p:spPr>
          <a:xfrm>
            <a:off x="2090880" y="66600"/>
            <a:ext cx="48765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362320" y="1295280"/>
            <a:ext cx="4495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6d9f1"/>
                </a:solidFill>
                <a:latin typeface="Calibri"/>
              </a:rPr>
              <a:t>A proper search of the house was not conduct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6d9f1"/>
                </a:solidFill>
                <a:latin typeface="Calibri"/>
              </a:rPr>
              <a:t>The property of the house was not sealed of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6d9f1"/>
                </a:solidFill>
                <a:latin typeface="Calibri"/>
              </a:rPr>
              <a:t>Friends, and family could walk in and out as they plea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6d9f1"/>
                </a:solidFill>
                <a:latin typeface="Calibri"/>
              </a:rPr>
              <a:t>Detective asked a friend (not a detective) to look for “anything suspicious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Rectangle 6" descr=""/>
          <p:cNvPicPr/>
          <p:nvPr/>
        </p:nvPicPr>
        <p:blipFill>
          <a:blip r:embed="rId2"/>
          <a:stretch/>
        </p:blipFill>
        <p:spPr>
          <a:xfrm>
            <a:off x="1066680" y="-291960"/>
            <a:ext cx="70837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599840" y="198108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ember 2003 D.N.A was still being analyz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ill unsolved of who did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February 2009, the Boulder Police Department took the case back from the district attorney and re-opened the investig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tangle 4" descr=""/>
          <p:cNvPicPr/>
          <p:nvPr/>
        </p:nvPicPr>
        <p:blipFill>
          <a:blip r:embed="rId1"/>
          <a:stretch/>
        </p:blipFill>
        <p:spPr>
          <a:xfrm>
            <a:off x="-609480" y="-457200"/>
            <a:ext cx="6181560" cy="3017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jonbenet230806_228x471.jpg"/>
          <p:cNvPicPr/>
          <p:nvPr/>
        </p:nvPicPr>
        <p:blipFill>
          <a:blip r:embed="rId2"/>
          <a:stretch/>
        </p:blipFill>
        <p:spPr>
          <a:xfrm>
            <a:off x="6324480" y="488880"/>
            <a:ext cx="281952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JonBenet-Ramsey-582x768-91kb-media-888-media-79964-1034115209.jpg"/>
          <p:cNvPicPr/>
          <p:nvPr/>
        </p:nvPicPr>
        <p:blipFill>
          <a:blip r:embed="rId2"/>
          <a:stretch/>
        </p:blipFill>
        <p:spPr>
          <a:xfrm>
            <a:off x="2895480" y="0"/>
            <a:ext cx="3638520" cy="4800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jonbenet.jpg"/>
          <p:cNvPicPr/>
          <p:nvPr/>
        </p:nvPicPr>
        <p:blipFill>
          <a:blip r:embed="rId3"/>
          <a:stretch/>
        </p:blipFill>
        <p:spPr>
          <a:xfrm>
            <a:off x="0" y="3584520"/>
            <a:ext cx="2633760" cy="3273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images (1).jpg"/>
          <p:cNvPicPr/>
          <p:nvPr/>
        </p:nvPicPr>
        <p:blipFill>
          <a:blip r:embed="rId4"/>
          <a:stretch/>
        </p:blipFill>
        <p:spPr>
          <a:xfrm>
            <a:off x="6858000" y="1219320"/>
            <a:ext cx="1943280" cy="2352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jonbenet_ramsey.jpg"/>
          <p:cNvPicPr/>
          <p:nvPr/>
        </p:nvPicPr>
        <p:blipFill>
          <a:blip r:embed="rId5"/>
          <a:stretch/>
        </p:blipFill>
        <p:spPr>
          <a:xfrm>
            <a:off x="228600" y="228600"/>
            <a:ext cx="2149560" cy="2895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JonbenetRamsey.jpg"/>
          <p:cNvPicPr/>
          <p:nvPr/>
        </p:nvPicPr>
        <p:blipFill>
          <a:blip r:embed="rId6"/>
          <a:stretch/>
        </p:blipFill>
        <p:spPr>
          <a:xfrm>
            <a:off x="6934320" y="4267080"/>
            <a:ext cx="188568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7" descr="road (1).jpg"/>
          <p:cNvPicPr/>
          <p:nvPr/>
        </p:nvPicPr>
        <p:blipFill>
          <a:blip r:embed="rId1"/>
          <a:stretch/>
        </p:blipFill>
        <p:spPr>
          <a:xfrm>
            <a:off x="0" y="3987720"/>
            <a:ext cx="9191520" cy="2870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20080709__JONBENET-RAMSEYA~p1.jpg"/>
          <p:cNvPicPr/>
          <p:nvPr/>
        </p:nvPicPr>
        <p:blipFill>
          <a:blip r:embed="rId2"/>
          <a:stretch/>
        </p:blipFill>
        <p:spPr>
          <a:xfrm>
            <a:off x="2819520" y="0"/>
            <a:ext cx="3589200" cy="457200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6" descr="20080709__JONBENET-RAMSEYB~p1.jpg"/>
          <p:cNvPicPr/>
          <p:nvPr/>
        </p:nvPicPr>
        <p:blipFill>
          <a:blip r:embed="rId3"/>
          <a:stretch/>
        </p:blipFill>
        <p:spPr>
          <a:xfrm>
            <a:off x="6324480" y="0"/>
            <a:ext cx="2819520" cy="457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20080709__JONBENET-RAMSEY~p1.jpg"/>
          <p:cNvPicPr/>
          <p:nvPr/>
        </p:nvPicPr>
        <p:blipFill>
          <a:blip r:embed="rId4"/>
          <a:stretch/>
        </p:blipFill>
        <p:spPr>
          <a:xfrm>
            <a:off x="0" y="0"/>
            <a:ext cx="3200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8:34:47Z</dcterms:created>
  <dc:creator>HP Authorized Customer</dc:creator>
  <dc:description/>
  <dc:language>en-US</dc:language>
  <cp:lastModifiedBy>Jackie Carl</cp:lastModifiedBy>
  <dcterms:modified xsi:type="dcterms:W3CDTF">2010-09-08T19:52:33Z</dcterms:modified>
  <cp:revision>15</cp:revision>
  <dc:subject/>
  <dc:title>Slide 1</dc:title>
</cp:coreProperties>
</file>